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41DB-3471-4E85-8B33-15374846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C760-C966-48DC-9A77-ED3FFF68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240E-946A-4D00-A283-D0915873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F102-7C94-4959-BB91-C95595DA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7402-9666-417F-AA75-83D938FB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3B54-7449-4B8A-BD89-1FC73E40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A03F-A791-44E4-A952-5FC62AEC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CBD4-06A2-4FCA-A572-17753419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8C14-C3BE-480E-B63F-8939BDD2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8333-0974-4B02-9C3D-60476DDD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EFB3-407E-4F7D-81D9-4913430E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6A5A-B4A3-4DE4-BAC7-C16BC5A3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5D15-9415-4C92-8EE0-DAA2DB7B7CF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419360"/>
            <a:ext cx="4537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5300280"/>
            <a:ext cx="41767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09:44:45Z</dcterms:modified>
  <cp:revision>586</cp:revision>
  <dc:subject/>
  <dc:title>Diapositiva 1</dc:title>
</cp:coreProperties>
</file>